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1E7D-00A1-4B02-B4E5-00C3C741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81E4-8346-48E1-8918-E950D661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2C6-8D17-4450-9849-5BB3A229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BD7A-9735-45E9-A835-DA1C65893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4158-2CCF-4F76-B5F7-1274217E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FBE1-35DE-49CC-83B8-99F3AEC3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2C5E-BDF6-40B8-B1B4-A67AC112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1187-5731-457E-9B15-C651981A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C2B8-4FB7-4CDE-B54D-5EF0633A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1E15-B596-43A7-A9B5-B1C89F2C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2030-D777-46A4-B3DC-4D760560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5A31-7F98-4484-B5EB-AE81B5E2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DCD3-EC9C-4E5C-84D7-5D4E41DC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F71E-634D-4638-9BAC-7D9E21EF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061A-9163-416A-8AD4-762F3117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AF43-056F-4382-969F-267B7D40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D601-2C7B-4B72-B3CF-9D17FFF4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C1C3-53A3-4A64-8A8B-2759980E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01E5-9C53-4F02-A04E-34532FB6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50F5-FC46-4FBC-B7EA-1CA29FFF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A5FE-B932-48DC-B489-904845B5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106C-DE76-4013-AEAA-6A01534E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E9E2-AA9E-4195-91A6-F5E2DAA3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59D2-270D-4E9D-9FFF-101A668B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S. Nandagopalan, B I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911F-EB87-4850-BEFC-51071987544D}" type="slidenum"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Click to edit the title text format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Nandagopalan, B I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01AD-6753-43D8-8C76-B65C1AD58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Verdana"/>
              </a:rPr>
              <a:t>C# Programming and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Verdana"/>
              </a:rPr>
              <a:t>.NET Concepts</a:t>
            </a:r>
            <a:endParaRPr b="1" lang="en-US" sz="40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87C6-F9A2-4D26-9329-E9060219D909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CLR </a:t>
            </a:r>
            <a:r>
              <a:rPr b="1" lang="en-US" sz="3000" spc="-1" strike="noStrike">
                <a:solidFill>
                  <a:srgbClr val="0000ff"/>
                </a:solidFill>
                <a:latin typeface="Verdana"/>
              </a:rPr>
              <a:t>(Common Language Runtime)</a:t>
            </a:r>
            <a:endParaRPr b="1" lang="en-US" sz="30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65276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1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LR sits on top of OS (same as JVM of Java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1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LR loads modules containing executables and executes the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1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de may be </a:t>
            </a:r>
            <a:r>
              <a:rPr b="0" lang="en-US" sz="1900" spc="-1" strike="noStrike">
                <a:solidFill>
                  <a:srgbClr val="cc0000"/>
                </a:solidFill>
                <a:latin typeface="Verdana"/>
              </a:rPr>
              <a:t>managed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or unmanag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1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anaged code consists of instructions in pseudo random code called </a:t>
            </a:r>
            <a:r>
              <a:rPr b="0" lang="en-US" sz="1900" spc="-1" strike="noStrike">
                <a:solidFill>
                  <a:srgbClr val="cc0000"/>
                </a:solidFill>
                <a:latin typeface="Verdana"/>
              </a:rPr>
              <a:t>CIL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en-US" sz="1900" spc="-1" strike="noStrike">
                <a:solidFill>
                  <a:srgbClr val="cc0000"/>
                </a:solidFill>
                <a:latin typeface="Verdana"/>
              </a:rPr>
              <a:t>Common Intermediate Languag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). CIL instructions are  JIT compiled into native machine code at run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1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IT compiled methods reside in cache until the application’s life 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1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dvantages of managed code: type safety, memory management, and code verification securit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1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LR can translate code from C#, J#, C, C++, VB, and Jscript into CIL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1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LR doesn’t launch a new process for every application. It launches one process and hosts individual applications in application domai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Verdana"/>
              </a:rPr>
              <a:t>S. Nandagopalan, B I 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2660-1348-458D-AFB0-08DDE5CDE1A6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990720" y="5029200"/>
            <a:ext cx="7467480" cy="1655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ommon Language Run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Base Class Libraries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capsulates various primitives like: threads, file IO, graphical rendering, and other interaction with HW de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 also provides: database manipulation, XML integration, Web-enabled front-en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066680" y="5634000"/>
            <a:ext cx="7010640" cy="838080"/>
          </a:xfrm>
          <a:prstGeom prst="rect">
            <a:avLst/>
          </a:prstGeom>
          <a:solidFill>
            <a:srgbClr val="fe9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5514840" y="5753160"/>
            <a:ext cx="2210040" cy="5335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990720" y="3733920"/>
            <a:ext cx="745812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ase Class Librar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1447920" y="4343400"/>
            <a:ext cx="1752480" cy="3808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re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1447920" y="3809880"/>
            <a:ext cx="1752480" cy="3812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ata Ac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3519360" y="4343400"/>
            <a:ext cx="1752840" cy="3808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le 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5867280" y="4343400"/>
            <a:ext cx="1752840" cy="3808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ML/SOA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3505320" y="3809880"/>
            <a:ext cx="1752480" cy="3812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0004-74BD-4B06-B332-197A7C95904E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C#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4297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lmost same as Jav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 pointers requir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utomatic memory management (No ‘delete’)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umeration, class, structure,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rator overloading allow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rface-based programming techniqu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ssign characteristics to types (same as COM IDL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# can produce code that can run only on .NET environment (unlike COM server or Win32 API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6A7E-EEF4-4340-9280-BD126E3F34D2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Understanding Assemblies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applications have dependencies on one or more DL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se DLLs may contain COM classes registered in System regist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these components are updated, applications may break – 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'DLL hell'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Verdana"/>
              </a:rPr>
              <a:t>Solution: .NET Assembl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# .NET compiler doesn't generate machine cod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t is compiled into "</a:t>
            </a: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assembl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"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2B97-77C2-4459-8ED0-741F6E8DFF5C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Assembly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Verdana"/>
              </a:rPr>
              <a:t>Intermediate Language (IL/CIL)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me as first pass of compiler. It can't be executed (it is not in binary format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Verdana"/>
              </a:rPr>
              <a:t>Metadat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s the assembly cont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need for component regis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assembly includes information about references to other assemb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.g. If you have a class called Car in a given assembly, the type metadata describes Car's base class, which interfaces are implemented by Car, description of members of C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0" name="Group 13"/>
          <p:cNvGrpSpPr/>
          <p:nvPr/>
        </p:nvGrpSpPr>
        <p:grpSpPr>
          <a:xfrm>
            <a:off x="457200" y="1300320"/>
            <a:ext cx="8077320" cy="1600200"/>
            <a:chOff x="457200" y="1300320"/>
            <a:chExt cx="8077320" cy="1600200"/>
          </a:xfrm>
        </p:grpSpPr>
        <p:sp>
          <p:nvSpPr>
            <p:cNvPr id="151" name="Rectangle 4"/>
            <p:cNvSpPr/>
            <p:nvPr/>
          </p:nvSpPr>
          <p:spPr>
            <a:xfrm>
              <a:off x="457200" y="1909800"/>
              <a:ext cx="2133720" cy="8380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C# source cod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Rectangle 6"/>
            <p:cNvSpPr/>
            <p:nvPr/>
          </p:nvSpPr>
          <p:spPr>
            <a:xfrm>
              <a:off x="3429000" y="1909800"/>
              <a:ext cx="2286000" cy="83808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C# .NET Compile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Rectangle 7"/>
            <p:cNvSpPr/>
            <p:nvPr/>
          </p:nvSpPr>
          <p:spPr>
            <a:xfrm>
              <a:off x="6553080" y="1300320"/>
              <a:ext cx="1981440" cy="16002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Assembl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4" name="Group 12"/>
            <p:cNvGrpSpPr/>
            <p:nvPr/>
          </p:nvGrpSpPr>
          <p:grpSpPr>
            <a:xfrm>
              <a:off x="7010280" y="1376280"/>
              <a:ext cx="1219320" cy="914400"/>
              <a:chOff x="7010280" y="1376280"/>
              <a:chExt cx="1219320" cy="914400"/>
            </a:xfrm>
          </p:grpSpPr>
          <p:sp>
            <p:nvSpPr>
              <p:cNvPr id="155" name="Rectangle 8"/>
              <p:cNvSpPr/>
              <p:nvPr/>
            </p:nvSpPr>
            <p:spPr>
              <a:xfrm>
                <a:off x="7010280" y="1376280"/>
                <a:ext cx="1219320" cy="914400"/>
              </a:xfrm>
              <a:prstGeom prst="rect">
                <a:avLst/>
              </a:prstGeom>
              <a:solidFill>
                <a:srgbClr val="cc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Metadata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IL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Line 9"/>
              <p:cNvSpPr/>
              <p:nvPr/>
            </p:nvSpPr>
            <p:spPr>
              <a:xfrm>
                <a:off x="7010280" y="1833480"/>
                <a:ext cx="121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7" name="Rectangle 10"/>
            <p:cNvSpPr/>
            <p:nvPr/>
          </p:nvSpPr>
          <p:spPr>
            <a:xfrm>
              <a:off x="2895480" y="2062080"/>
              <a:ext cx="381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11"/>
            <p:cNvSpPr/>
            <p:nvPr/>
          </p:nvSpPr>
          <p:spPr>
            <a:xfrm>
              <a:off x="5967360" y="206208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39D6-AA0D-481E-96E3-D2280E8C00A0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Assembly…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en CLR loads your application, it examines your program's metadata to know which external assemblies are required for execu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Verdana"/>
              </a:rPr>
              <a:t>Private assembl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by singl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not sha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preferred meth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Verdana"/>
              </a:rPr>
              <a:t>Shared assembl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multiple appl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lobal Assembly Cac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Verdana"/>
              </a:rPr>
              <a:t>Manifes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etadata of assemblies: version, list of externally defined assembli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F7EC-947A-4DB6-A9B5-997C75898D1A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Example of CIL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44625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Verdana"/>
              </a:rPr>
              <a:t>CIL sits above a specific compiler (C#, J#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Verdana"/>
              </a:rPr>
              <a:t>The associated compiler emits CIL instruc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amespace Calcula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ublic class CalcApp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ublic static void Main(string[] arg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c c = new Calc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 ans = c.Add(10, 84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sole.WriteLine(an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sole.ReadLin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3280" y="1752480"/>
            <a:ext cx="4500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ublic class Cal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ublic int Add(int x, int y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{ return x + y; 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Verdana"/>
              </a:rPr>
              <a:t>All .NET aware languages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Verdana"/>
              </a:rPr>
              <a:t>emit same CIL instru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Line 5"/>
          <p:cNvSpPr/>
          <p:nvPr/>
        </p:nvSpPr>
        <p:spPr>
          <a:xfrm>
            <a:off x="5105520" y="1676520"/>
            <a:ext cx="0" cy="44956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7B14-7283-48B6-A7AF-F29D2C427915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CIL of Add() Method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.method public hidebysig instance int32  Add(int32 x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                  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32 y) cil manag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// Code size       8 (0x8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.maxstack  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.locals init ([0] int32 CS$00000003$00000000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L_0000:  ldarg.1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L_0001:  ldarg.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L_0002:  ad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L_0003:  stloc.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L_0004:  br.s       IL_0006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L_0006:  ldloc.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L_0007:  r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} // end of method Calc::Ad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64E2-E795-4017-B06F-CDF280B0DEEC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Manifest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00"/>
                </a:solidFill>
                <a:latin typeface="Verdana"/>
              </a:rPr>
              <a:t>.assembly extern mscorlib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publickeytoken = (B7 7A 5C 56 19 34 E0 89 )                         // .z\V.4.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ver 1:0:5000: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assembly ConsoleApplication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hash algorithm 0x00008004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ver 1:0:2058:39833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module ConsoleApplication1.ex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// MVID: {51BE4F31-CBD0-4AE6-BC9D-F9A4976795FD}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imagebase 0x0040000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subsystem 0x00000003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file alignment 4096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.corflags 0x0000000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// Image base: 0x070b000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3505320" y="685800"/>
            <a:ext cx="3047760" cy="1023840"/>
          </a:xfrm>
          <a:prstGeom prst="wedgeEllipseCallout">
            <a:avLst>
              <a:gd name="adj1" fmla="val -46407"/>
              <a:gd name="adj2" fmla="val 66124"/>
            </a:avLst>
          </a:prstGeom>
          <a:solidFill>
            <a:srgbClr val="ccff66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xternal Assemb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8ED6-BA53-471C-A7B6-01E337537299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CIL to Execution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94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94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94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94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94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94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94560" indent="-3945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itter compiles CIL instructions on the fly into corresponding machine code and cache it. This is useful for not recompiling, if the same method is called aga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7" name="Group 20"/>
          <p:cNvGrpSpPr/>
          <p:nvPr/>
        </p:nvGrpSpPr>
        <p:grpSpPr>
          <a:xfrm>
            <a:off x="533520" y="1295280"/>
            <a:ext cx="8076960" cy="3032280"/>
            <a:chOff x="533520" y="1295280"/>
            <a:chExt cx="8076960" cy="3032280"/>
          </a:xfrm>
        </p:grpSpPr>
        <p:sp>
          <p:nvSpPr>
            <p:cNvPr id="178" name="Rectangle 5"/>
            <p:cNvSpPr/>
            <p:nvPr/>
          </p:nvSpPr>
          <p:spPr>
            <a:xfrm>
              <a:off x="533520" y="2422440"/>
              <a:ext cx="2133360" cy="83808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CI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6"/>
            <p:cNvSpPr/>
            <p:nvPr/>
          </p:nvSpPr>
          <p:spPr>
            <a:xfrm>
              <a:off x="3429000" y="2346120"/>
              <a:ext cx="2286000" cy="83844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JIT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6553080" y="1295280"/>
              <a:ext cx="1981440" cy="6858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Desktop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Line 13"/>
            <p:cNvSpPr/>
            <p:nvPr/>
          </p:nvSpPr>
          <p:spPr>
            <a:xfrm>
              <a:off x="2819520" y="2727360"/>
              <a:ext cx="6094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6629400" y="3641760"/>
              <a:ext cx="1981080" cy="6858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Pocket PC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6553080" y="2431800"/>
              <a:ext cx="1981440" cy="6858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Line 17"/>
            <p:cNvSpPr/>
            <p:nvPr/>
          </p:nvSpPr>
          <p:spPr>
            <a:xfrm flipV="1">
              <a:off x="5867280" y="1659960"/>
              <a:ext cx="669960" cy="1096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Line 18"/>
            <p:cNvSpPr/>
            <p:nvPr/>
          </p:nvSpPr>
          <p:spPr>
            <a:xfrm>
              <a:off x="5791320" y="272736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Line 19"/>
            <p:cNvSpPr/>
            <p:nvPr/>
          </p:nvSpPr>
          <p:spPr>
            <a:xfrm>
              <a:off x="5867280" y="2727360"/>
              <a:ext cx="762120" cy="1218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1559-5E00-4084-8DBF-2E95787740B7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Books for Reference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# and the .NET Platform (2 E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y Andrew Troelse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reamtech Public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icrosoft Visual C# .N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y Mickey Willia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icrosoft Pr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7C88-C3E3-428A-83A9-2D646698C319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Common Type System (CTS)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TS is a formal specification that describes how a given </a:t>
            </a: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typ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must be defined for CL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TS Class Typ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TS Structure Typ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TS Interface Typ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TS Enumeration typ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TS Delegate typ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20FF-7ABD-4A4D-B0DA-88AC99B4E627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CTS Class Type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me as C++ cla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contain members: methods, properties, events, etc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pport for abstract members that define a polymorphic interface for derived clas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ultiple inheritance is not allow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0FF9-0F0F-4A89-A329-80E3ACBA051F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CTS Class Characteristics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"sealed"?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sealed classes can't function as base clas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Implement any interfaces?</a:t>
            </a: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– An interface is a collection of abstract memb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Abstract or Concrete?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Abstract classes (to define common behaviors for derived) can't be created directly but concrete classes ca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Verdana"/>
              </a:rPr>
              <a:t>Visibility?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visibility attribute to know whether external assemblies can use i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66640" y="479160"/>
            <a:ext cx="8196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TS Structure typ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me as C/C++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rived from a common base class System.ValueTyp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TS Enumeration typ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group name/value pairs under a specific na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ault Storage: System.Int32 (could be changed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TS Interface Typ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me as pure abstract class of C+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description of work that a derived class can per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imilar to a class, but can never be instantia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TS Delegate typ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me as C's function pointer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ystem.MulticastDelegate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for event handling (ASP .NE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39EE-939D-4F08-A20E-3656C12EED0C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Intrinsic CTS Data Types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143000" y="1704960"/>
          <a:ext cx="6172200" cy="4511520"/>
        </p:xfrm>
        <a:graphic>
          <a:graphicData uri="http://schemas.openxmlformats.org/drawingml/2006/table">
            <a:tbl>
              <a:tblPr/>
              <a:tblGrid>
                <a:gridCol w="3352680"/>
                <a:gridCol w="2819520"/>
              </a:tblGrid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NET Base Typ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# Typ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S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Int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Int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Int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UInt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l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Sing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Bool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17AF-8A27-4ECF-8313-81117DB6BB74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Common Language Specification </a:t>
            </a:r>
            <a:br>
              <a:rPr sz="3200"/>
            </a:br>
            <a:r>
              <a:rPr b="1" lang="en-US" sz="3400" spc="-1" strike="noStrike">
                <a:solidFill>
                  <a:srgbClr val="0000ff"/>
                </a:solidFill>
                <a:latin typeface="Verdana"/>
              </a:rPr>
              <a:t>(CLS)</a:t>
            </a:r>
            <a:endParaRPr b="1" lang="en-US" sz="3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 of guidelines that describe the minimal and complete set of features a given .NET aware compiler must sup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# uses </a:t>
            </a:r>
            <a:r>
              <a:rPr b="1" lang="en-US" sz="2600" spc="-1" strike="noStrike">
                <a:solidFill>
                  <a:srgbClr val="006600"/>
                </a:solidFill>
                <a:latin typeface="Verdana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for concatenation whereas VB .NET uses </a:t>
            </a:r>
            <a:r>
              <a:rPr b="1" lang="en-US" sz="2600" spc="-1" strike="noStrike">
                <a:solidFill>
                  <a:srgbClr val="006600"/>
                </a:solidFill>
                <a:latin typeface="Verdana"/>
              </a:rPr>
              <a:t>&amp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# allows operator overloading but VB .NET does no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void functions may differ in syntax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' VB .NET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// C#</a:t>
            </a:r>
            <a:r>
              <a:rPr b="0" lang="en-US" sz="2600" spc="-1" strike="noStrike">
                <a:solidFill>
                  <a:srgbClr val="0066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Public Sub Foo()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public void Foo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'…….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{ ……. 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End Sub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527B-3916-4EF0-B377-5E9F0861AAD6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CLS Compliance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447920" y="1752480"/>
          <a:ext cx="6138720" cy="4816440"/>
        </p:xfrm>
        <a:graphic>
          <a:graphicData uri="http://schemas.openxmlformats.org/drawingml/2006/table">
            <a:tbl>
              <a:tblPr/>
              <a:tblGrid>
                <a:gridCol w="3166920"/>
                <a:gridCol w="297180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# Typ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S Compli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y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l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4DFC-8AE5-4BCF-97EE-057C8FA51C0D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Example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 class Cal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// CLS compli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 int Add(int x, int 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{ return x + y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// Not CLS compli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ulo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dd(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ulo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x,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ulo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{ return x + y; 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nce a method is CLS compliant, then all the .NET aware languages can interact with that implementati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CLR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9907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81080" y="380880"/>
            <a:ext cx="1524240" cy="1219320"/>
          </a:xfrm>
          <a:prstGeom prst="rect">
            <a:avLst/>
          </a:prstGeom>
          <a:gradFill rotWithShape="0">
            <a:gsLst>
              <a:gs pos="0">
                <a:srgbClr val="003000">
                  <a:alpha val="71372"/>
                </a:srgbClr>
              </a:gs>
              <a:gs pos="100000">
                <a:srgbClr val="006600">
                  <a:alpha val="65098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.NE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ourc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1600200" y="2514600"/>
            <a:ext cx="1905120" cy="2362320"/>
          </a:xfrm>
          <a:prstGeom prst="rect">
            <a:avLst/>
          </a:prstGeom>
          <a:gradFill rotWithShape="0">
            <a:gsLst>
              <a:gs pos="0">
                <a:srgbClr val="003000">
                  <a:alpha val="71372"/>
                </a:srgbClr>
              </a:gs>
              <a:gs pos="100000">
                <a:srgbClr val="006600">
                  <a:alpha val="65098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ase Cla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(mscorlib.dl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4572000" y="2209680"/>
            <a:ext cx="2666880" cy="41911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.NET Execution Eng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5105520" y="2514600"/>
            <a:ext cx="1600200" cy="6094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ass Load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5105520" y="3429000"/>
            <a:ext cx="1600200" cy="6094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it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5105520" y="4343400"/>
            <a:ext cx="1600200" cy="6094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tfor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cific co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5105520" y="5257800"/>
            <a:ext cx="1600200" cy="6094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5867280" y="3124080"/>
            <a:ext cx="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5867280" y="4952880"/>
            <a:ext cx="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5867280" y="4038480"/>
            <a:ext cx="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Line 15"/>
          <p:cNvSpPr/>
          <p:nvPr/>
        </p:nvSpPr>
        <p:spPr>
          <a:xfrm>
            <a:off x="3505320" y="2819520"/>
            <a:ext cx="1600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4648320" y="304920"/>
            <a:ext cx="251460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.NET Compil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Rectangle 17"/>
          <p:cNvSpPr/>
          <p:nvPr/>
        </p:nvSpPr>
        <p:spPr>
          <a:xfrm>
            <a:off x="4648320" y="1235160"/>
            <a:ext cx="2514600" cy="593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LL or EX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(CI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Line 18"/>
          <p:cNvSpPr/>
          <p:nvPr/>
        </p:nvSpPr>
        <p:spPr>
          <a:xfrm>
            <a:off x="3505320" y="609480"/>
            <a:ext cx="111276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Line 19"/>
          <p:cNvSpPr/>
          <p:nvPr/>
        </p:nvSpPr>
        <p:spPr>
          <a:xfrm>
            <a:off x="5867280" y="914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Line 20"/>
          <p:cNvSpPr/>
          <p:nvPr/>
        </p:nvSpPr>
        <p:spPr>
          <a:xfrm>
            <a:off x="5867280" y="1828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21"/>
          <p:cNvSpPr/>
          <p:nvPr/>
        </p:nvSpPr>
        <p:spPr>
          <a:xfrm>
            <a:off x="5086440" y="2133720"/>
            <a:ext cx="1600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scoree.d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Rectangle 22"/>
          <p:cNvSpPr/>
          <p:nvPr/>
        </p:nvSpPr>
        <p:spPr>
          <a:xfrm>
            <a:off x="380880" y="5181480"/>
            <a:ext cx="3657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mscoree.dl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croSoft Commo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ject Runtime Execution Eng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4007-3F8A-4637-A28B-8DFBA1FD3038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.NET Namespace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FC, Java, VB 6.0 have predefined set of classes; C# doesn'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# uses namespace concep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y language targeting the .NET runtime makes use of the same namespaces and same types as C#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stem is the root namesp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844A-BB6A-4591-9D65-CDF6321ADA3A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Chapter - 1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The Philosophy of .NET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4EAA-0A5D-4363-A163-D6325D761CED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Example in C#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using System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blic Class MyAp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blic static void Main(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ole.WriteLine("Hello World")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5105520" y="762120"/>
            <a:ext cx="3047760" cy="761760"/>
          </a:xfrm>
          <a:prstGeom prst="wedgeRoundRectCallout">
            <a:avLst>
              <a:gd name="adj1" fmla="val -101875"/>
              <a:gd name="adj2" fmla="val 110000"/>
              <a:gd name="adj3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ystem Namesp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5791320" y="3111480"/>
            <a:ext cx="3047760" cy="1066680"/>
          </a:xfrm>
          <a:prstGeom prst="wedgeRoundRectCallout">
            <a:avLst>
              <a:gd name="adj1" fmla="val -152916"/>
              <a:gd name="adj2" fmla="val 74254"/>
              <a:gd name="adj3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sole class in System Namesp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550E-DB0D-4C3D-8BF4-BED95B52B838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Example in VB .NET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Imports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blic Module MyAp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b Main(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ole.WriteLine("Hello World"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d Su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d Mo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34C2-CB42-454C-8DDA-1811453C2633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Example in Managed C++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#using &lt;mscorlib.dll&gt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00"/>
                </a:solidFill>
                <a:latin typeface="Verdana"/>
              </a:rPr>
              <a:t>using namespace System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oid Main(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{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ole::WriteLine("Hello World")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8EB4-4829-46E7-BF92-2BC759B02028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Sample .NET namespaces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566640" y="1752480"/>
          <a:ext cx="8001000" cy="42991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mitive types, garbage collection, 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Coll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ainer objects: ArrayList, Queue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0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Data.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Data.Ole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Data.SqlCl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 Database manipulations   ADO .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le IO, buffering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Draw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Drawing.2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DI+ primitives, bitmaps, fonts, icon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stem.Thr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rea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6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21FD-6D8D-4980-BD8A-6C0BDB4AF896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Demo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1101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ole Appli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Applic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aphic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4" descr="keyboard_photo"/>
          <p:cNvPicPr/>
          <p:nvPr/>
        </p:nvPicPr>
        <p:blipFill>
          <a:blip r:embed="rId1"/>
          <a:stretch/>
        </p:blipFill>
        <p:spPr>
          <a:xfrm>
            <a:off x="4643280" y="1911240"/>
            <a:ext cx="39243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0B1E-963B-4031-A00E-539E97EFE6D5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e08500"/>
                </a:solidFill>
                <a:latin typeface="Comic Sans MS"/>
              </a:rPr>
              <a:t>End of </a:t>
            </a:r>
            <a:r>
              <a:rPr b="1" lang="en-US" sz="4600" spc="-1" strike="noStrike">
                <a:solidFill>
                  <a:srgbClr val="e08500"/>
                </a:solidFill>
                <a:latin typeface="Comic Sans MS"/>
              </a:rPr>
              <a:t>Chapter 1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C0B6-6518-4FCD-A2DC-DC0793956248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Objectives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derstanding the previous state of affai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.NET Solu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ing blocks of .NET Platfor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R, CTS, and C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NET Base Class Librar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3009-0A8E-4BAE-80C7-DF4610B2C62E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133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Understanding the </a:t>
            </a:r>
            <a:br>
              <a:rPr sz="3800"/>
            </a:b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previous state of affairs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63800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As a C/Win32 API Programm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compl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is a short/abrupt langu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al memory management, ugly pointer arithmetic, ugly syntactic constru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a OO langu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As a C++/MFC Programm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ot is 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++ with MFC is still complex and error-pr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As a VB 6 Programm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a complete OOP (“Object-aware”) – Wh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esn’t support inheri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multithre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parameterized Cla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-level API calls are compl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96CF-59AD-495B-BD32-E2A0E538D619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Verdana"/>
              </a:rPr>
              <a:t>Previous state of affairs…</a:t>
            </a:r>
            <a:endParaRPr b="1" lang="en-US" sz="4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s a Java/J2EE Programm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 of Java front-to-back during development cyc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 language freedom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ure Java is not suitable for graphic intensive problems (E.g. 3D gam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 cross-language integ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s a COM Programm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lex creation of COM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tive Template Library (AT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rced to contend with brittle/fragile registration entr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ployment issu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E2DE-37F4-435E-B345-2C502D0DF6DB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.NET Solution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ull interoperability with existing Win32 Cod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xisting COM binaries can interoperate with .NET binar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mplete and total language integr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pports cross-language inheritance, exception handling, and debugging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mmon runtime engine shared by all .NET aware languag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 base class libra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ood object model used by all .NET aware languag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more COM plumbing!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 IClassFactory, IUnKnown, IDispatch, etc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uly simplified deployment mod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 need to register a binary unit into the system regist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llows multiple versions of same *.d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B4DE-A368-4DA5-BC7B-1FC34BA20CD7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.NET Framework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609480" y="5442120"/>
            <a:ext cx="5451480" cy="57780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ng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09480" y="4799160"/>
            <a:ext cx="5451480" cy="577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on Language Run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09480" y="4221000"/>
            <a:ext cx="5451480" cy="51444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 Class Libra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609480" y="3643200"/>
            <a:ext cx="5451480" cy="514440"/>
          </a:xfrm>
          <a:prstGeom prst="rect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O.NET and X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1" name="Group 9"/>
          <p:cNvGrpSpPr/>
          <p:nvPr/>
        </p:nvGrpSpPr>
        <p:grpSpPr>
          <a:xfrm>
            <a:off x="609480" y="2679840"/>
            <a:ext cx="5451120" cy="900000"/>
            <a:chOff x="609480" y="2679840"/>
            <a:chExt cx="5451120" cy="900000"/>
          </a:xfrm>
        </p:grpSpPr>
        <p:sp>
          <p:nvSpPr>
            <p:cNvPr id="112" name="Rectangle 10"/>
            <p:cNvSpPr/>
            <p:nvPr/>
          </p:nvSpPr>
          <p:spPr>
            <a:xfrm>
              <a:off x="609480" y="2679840"/>
              <a:ext cx="3435120" cy="900000"/>
            </a:xfrm>
            <a:prstGeom prst="rect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SP.NE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eb Forms   Web Service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4119120" y="2679840"/>
              <a:ext cx="1941480" cy="900000"/>
            </a:xfrm>
            <a:prstGeom prst="rect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Window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orm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4" name="Rectangle 12"/>
          <p:cNvSpPr/>
          <p:nvPr/>
        </p:nvSpPr>
        <p:spPr>
          <a:xfrm>
            <a:off x="609480" y="2101680"/>
            <a:ext cx="5451480" cy="514440"/>
          </a:xfrm>
          <a:prstGeom prst="rect">
            <a:avLst/>
          </a:prstGeom>
          <a:gradFill rotWithShape="0">
            <a:gsLst>
              <a:gs pos="0">
                <a:srgbClr val="00182f"/>
              </a:gs>
              <a:gs pos="100000">
                <a:srgbClr val="0033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on Language Specif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5" name="Group 13"/>
          <p:cNvGrpSpPr/>
          <p:nvPr/>
        </p:nvGrpSpPr>
        <p:grpSpPr>
          <a:xfrm>
            <a:off x="609480" y="1523880"/>
            <a:ext cx="5451120" cy="514440"/>
            <a:chOff x="609480" y="1523880"/>
            <a:chExt cx="5451120" cy="514440"/>
          </a:xfrm>
        </p:grpSpPr>
        <p:sp>
          <p:nvSpPr>
            <p:cNvPr id="116" name="Rectangle 14"/>
            <p:cNvSpPr/>
            <p:nvPr/>
          </p:nvSpPr>
          <p:spPr>
            <a:xfrm>
              <a:off x="609480" y="1523880"/>
              <a:ext cx="970560" cy="514440"/>
            </a:xfrm>
            <a:prstGeom prst="rect">
              <a:avLst/>
            </a:prstGeom>
            <a:gradFill rotWithShape="0">
              <a:gsLst>
                <a:gs pos="0">
                  <a:srgbClr val="00182f"/>
                </a:gs>
                <a:gs pos="100000">
                  <a:srgbClr val="0033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B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1654560" y="1523880"/>
              <a:ext cx="967680" cy="514440"/>
            </a:xfrm>
            <a:prstGeom prst="rect">
              <a:avLst/>
            </a:prstGeom>
            <a:gradFill rotWithShape="0">
              <a:gsLst>
                <a:gs pos="0">
                  <a:srgbClr val="00182f"/>
                </a:gs>
                <a:gs pos="100000">
                  <a:srgbClr val="0033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++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2700360" y="1523880"/>
              <a:ext cx="970200" cy="514440"/>
            </a:xfrm>
            <a:prstGeom prst="rect">
              <a:avLst/>
            </a:prstGeom>
            <a:gradFill rotWithShape="0">
              <a:gsLst>
                <a:gs pos="0">
                  <a:srgbClr val="00182f"/>
                </a:gs>
                <a:gs pos="100000">
                  <a:srgbClr val="0033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#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3745800" y="1523880"/>
              <a:ext cx="1191600" cy="514440"/>
            </a:xfrm>
            <a:prstGeom prst="rect">
              <a:avLst/>
            </a:prstGeom>
            <a:gradFill rotWithShape="0">
              <a:gsLst>
                <a:gs pos="0">
                  <a:srgbClr val="00182f"/>
                </a:gs>
                <a:gs pos="100000">
                  <a:srgbClr val="0033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JScrip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5015160" y="1523880"/>
              <a:ext cx="1045440" cy="514440"/>
            </a:xfrm>
            <a:prstGeom prst="rect">
              <a:avLst/>
            </a:prstGeom>
            <a:gradFill rotWithShape="0">
              <a:gsLst>
                <a:gs pos="0">
                  <a:srgbClr val="00182f"/>
                </a:gs>
                <a:gs pos="100000">
                  <a:srgbClr val="0033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J#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1" name="Rectangle 19"/>
          <p:cNvSpPr/>
          <p:nvPr/>
        </p:nvSpPr>
        <p:spPr>
          <a:xfrm>
            <a:off x="6210360" y="1523880"/>
            <a:ext cx="1866960" cy="4496040"/>
          </a:xfrm>
          <a:prstGeom prst="rect">
            <a:avLst/>
          </a:prstGeom>
          <a:gradFill rotWithShape="0">
            <a:gsLst>
              <a:gs pos="0">
                <a:srgbClr val="764600"/>
              </a:gs>
              <a:gs pos="100000">
                <a:srgbClr val="fe9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ual Studio.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64A9-FA67-48BF-94F2-D2B841CA9500}" type="slidenum">
              <a:rPr b="0" lang="en-US" sz="1200" spc="-1" strike="noStrike">
                <a:solidFill>
                  <a:srgbClr val="0000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Verdana"/>
              </a:rPr>
              <a:t>Building Blocks of .NET</a:t>
            </a:r>
            <a:endParaRPr b="1" lang="en-US" sz="38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1536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R (Common Language Runtim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locate, load, and manage .NET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matic memory management, language integration, and type safe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TS (Common Type System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scribes all possible data types and programming constructs supported by the runti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11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S (Common Language Specific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set of rules that defines a subset of types and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5:23:29Z</dcterms:created>
  <dc:creator> </dc:creator>
  <dc:description/>
  <dc:language>en-US</dc:language>
  <cp:lastModifiedBy>Admin</cp:lastModifiedBy>
  <dcterms:modified xsi:type="dcterms:W3CDTF">2017-09-07T10:30:58Z</dcterms:modified>
  <cp:revision>66</cp:revision>
  <dc:subject/>
  <dc:title>C# Programming and  .NET Concepts</dc:title>
</cp:coreProperties>
</file>